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F18A-D921-4FF4-91C9-E8534A680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9D9-EC02-4929-B675-27774035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D22C-BD4D-4C3B-B6C9-9C3AB2080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284-694A-440C-8453-E20332655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8B0A-6AFB-4D21-A8FB-1E41CE96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89E-3B9A-4177-94D3-807A4BF9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D0D5-875A-4083-A5B5-F8B74CA7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8E52-EB43-4C07-B158-498CC537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A8F1-BAC9-420D-BADB-669C5E15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1E9-F56B-4F93-9CC6-8C601C0F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31BC-CEB3-4A38-810E-1793A07A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F4F-33A3-4802-9773-AC2675E0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5B49-A6D7-4596-9B29-6D9BFF37AF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5333760" cy="42498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32560" y="21081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24382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6600" y="4343400"/>
            <a:ext cx="1381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sk 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7242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5080" y="190512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vigation deskto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6248520" y="2209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151040" y="402444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ent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562360" y="4343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0:53:03Z</dcterms:created>
  <dc:creator>Mathematical and Information Sciences</dc:creator>
  <dc:description/>
  <dc:language>en-US</dc:language>
  <cp:lastModifiedBy>Mathematical and Information Sciences</cp:lastModifiedBy>
  <dcterms:modified xsi:type="dcterms:W3CDTF">2000-11-23T00:53:36Z</dcterms:modified>
  <cp:revision>1</cp:revision>
  <dc:subject/>
  <dc:title>PowerPoint Presentation</dc:title>
</cp:coreProperties>
</file>