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9D5-13C2-4458-AD2A-A902BB7D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277-EDE8-416A-BFCE-5DF10D49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BAA2-B318-45E6-B3ED-86173E56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F59-28DA-4BED-B4C6-CE0D52F7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2CF-0511-40B7-8AE9-0D101346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6C6D-C657-46D2-9124-6B83F249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BF2-D4A5-4D4B-861F-BC06B725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297-55C0-4D26-BAF4-0402B7D9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53E-1E52-4D2D-89FF-CA676FDB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96C-BF71-4A1C-B7F1-76DB827F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775-7CB1-4998-B24A-BDCB64D5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34C-0B08-46E4-9670-266E3B5B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CCED-5EC2-4A25-951F-5B79D9BF1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3376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2560" y="2108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600" y="434340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190512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igation desk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51040" y="402444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56236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0:53:03Z</dcterms:created>
  <dc:creator>Mathematical and Information Sciences</dc:creator>
  <dc:description/>
  <dc:language>en-US</dc:language>
  <cp:lastModifiedBy>Mathematical and Information Sciences</cp:lastModifiedBy>
  <dcterms:modified xsi:type="dcterms:W3CDTF">2000-11-23T00:53:36Z</dcterms:modified>
  <cp:revision>1</cp:revision>
  <dc:subject/>
  <dc:title>PowerPoint Presentation</dc:title>
</cp:coreProperties>
</file>